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78E-B3B7-478C-A601-773DD970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7EE-8F91-4045-8C1A-7D525DA0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036DB-5472-4539-8865-210D44E7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87CDC-0F12-4DE2-B6EB-B6E545BB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7B58F-E27B-4BD5-8398-DB07A794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8C676-F14A-457C-9EBB-B87F3CBD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0723B-C8F8-4152-A076-A2FF6097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45AD6-9DD0-4698-9D8A-CD679136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00F6F-F488-4350-98E8-48822433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9B1FF-92CA-42F5-BE41-11149EDA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49046-FE31-4884-9FF5-176BE5C4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34F95-B2E3-4D1A-B7D0-C3EAA3A6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58B-FB6F-4F6C-883B-D0783E59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CA58E-B552-4386-AF19-2ADD7C36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44C19-1DA4-4FF7-B312-93A09610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A700B-286B-442C-B348-925C893F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38351-D846-4B52-B65D-46A188EF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0452C-A71A-434F-836B-843758C7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3A642-C9D0-4D87-83C7-53B9B5A4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35DBD-B440-4236-8DC5-3C7D3A62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1CB31-1BDC-4DF7-B127-4B4AD2B4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130A0-CC5F-4062-A7FB-59B61F9D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39BA3-8144-43F0-A0D4-A1E6AF4C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6A9-20F1-4000-BCE0-1F801A11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A97C9-3907-4A5F-819A-EE91EFD4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24D682-10C2-4454-B74D-9250E06C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D962E1-52E9-497D-84D5-0E82F4AE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0D8990-37C5-4AE1-9879-5CBF5755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C50FFD-18FA-4677-8025-4097A82D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194C7B-E293-4578-A83E-1C07C591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20EB74-22E8-497C-816A-CFDBB3D3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EB2040-5FE2-412E-8189-64BF7FC6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CF32FB-94BF-4D80-AC81-B3BCFA5B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76F424-E04F-4DEE-ABE5-F16ACD23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8217-EF37-432B-879D-83601C83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17C063-4CE9-4624-81E0-BD315DAB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B21C7C-10EB-4D1E-AB7B-4108E9EB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052DB6-F8E1-4A63-9D48-A9C189B4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C614F-E05B-43B5-870D-FCDE7574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C1CE9-7C43-4B12-89B8-32431BFD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D52EB-E573-4A97-B4C3-00BAC0C5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BD51B-FF94-498C-9B88-CAE69866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961BD-3EE7-4731-81C3-2FB9F9C9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2104D-4C4E-4094-A325-D638EE1B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BF228-BACA-4F0D-81D6-7207F96E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26E1-DE89-4F0C-95B0-6DFE992C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8D13F-6EDB-44D0-89CA-C59E9EF4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3502B-2005-41B1-9967-EE277CD0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9F82C-8066-4B54-BC66-84AE3662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93C91-ADDD-4209-BBE3-C45722B6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4B348-0369-4ED4-B4EB-FDBD32AE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516B-ABE2-472B-884B-583A081C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7C4A-28D9-49BD-9D00-854D14D5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E5CB-9278-4AD8-9640-34CE4E66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CDF1-7747-4056-8064-5FAC0B1B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9B8D-C566-475D-82B0-61BB49BD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6AC-1DB5-4BD5-9E50-ABEA31A3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A374-7B94-4B6E-B46A-BCB6EC38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23FC-C423-4564-BBA4-5B83DB0B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2255-1375-41D0-8F70-1B4AAA4C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D0F5-7CEC-4D93-8105-303569AA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0160-6037-4CEB-BBE5-F25807FE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40F3A-E4C4-4422-A379-BAB48260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CA32D-C1A4-4C00-AB1F-A5AD6C27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CD8E4-8C6F-4AE3-8239-D3123CDF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BCDD9-E979-4481-B7B8-764B72A2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6591B-C366-46E7-B3F0-26B2A4B5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DD77-BEB5-4984-9988-D7A7C7CD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F3D79-C4A1-47FA-9AC3-8E3A949D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F2433-3E4D-45D5-9772-DE17676D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D8460-CC57-46C2-BB69-02DA354F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3752D-B3DA-4281-B717-E506C8A8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F9687-3482-4E0A-A37C-9856D4BE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42389-7696-4E0D-9607-5C4B94DC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1D167-A922-45E8-AD54-79F031AB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0BAEEA-6D75-4349-A6D7-F041C0DB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1674B0-FB96-4B0E-B97D-5EA47A07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348300-B18B-4440-9AB1-3BFBCAE9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D188-F811-4E8F-B18E-7970C093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979709-759A-4296-8D87-95850475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91FF48-F80F-4950-AB4B-0621782D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182E5F-A4AE-49F8-803C-CF2FE5EF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412D2F-7063-4FF8-8FD3-9C7DCADD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B5CA87-056D-4BC6-91BA-FFE27BEB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C11C4D-3A81-4480-BED4-DBC19BF7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FB33B3-1221-4BB9-88E5-6AEFC250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EDCAD-EA30-448F-B4DA-5A18A17F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71678C-9E42-4DA1-A19C-14D4BFE7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B3D4B-AACC-452F-8EF8-31483521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66A-ED6E-448B-995E-8D398C1E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5C172-0C40-4D49-A667-580E00FE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9D884-F8D7-4398-971D-413A1E0F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224A8-5ACC-4B83-B135-21939265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FA7FB-EA6B-4219-A8B9-B51121A4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101DC-8AF5-4898-A7E1-D6CFD604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3F2D7-0284-4A55-9DD5-DEC4FEB4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FC7E2-0159-4747-A060-F95E9667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E32CA-76D7-40F7-8CBD-D89A6026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7118D-2FF9-464B-B0AF-F2ABA37B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D508C-4715-47AD-8A0C-03DFB8BC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E36-2D5B-4919-A28C-A959A16E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D170E-40EE-4A04-AB51-B3AF091C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DBAF2-35B9-4A1E-B004-5FD4D543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748FF-FCA8-441C-B7C2-FF916783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162A5-B1D3-4DAB-BDC5-F1F2D6B2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3DC29-F7E6-4BFE-9E95-CAC6508A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8A432-2D9D-4EF7-9887-5F656B92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95579-7032-4017-8E9A-55846B2A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901AF-C259-4E68-8D4A-B72FF1E1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7338F-E89F-4337-8D7E-D86712F2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42973-8096-4742-A3AD-A3419385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DA1-0ABC-47CA-BC56-3D0E9523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437AB-49EC-4AB8-9410-B5FD0E58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6A813-479C-415A-ACDA-E8310662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BE46C-723E-46CD-9998-7A5BEBF4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E83C7-F968-472A-A080-B063071E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7CCA7-0AB0-4A05-A538-5C75908C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09A7E-05C9-4876-B719-7AB03467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9D08C-8B47-46B2-A866-026CE134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83794-B3BF-4213-8112-DBF8FE0C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D5CB6-C169-4634-979B-299CC837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20879-83F7-41AA-9277-52670E6D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BE7A-FED0-4445-B1A2-5E8906D1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2F3A4-A9A4-4BA6-8CBB-A93145BF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BD9E3-E7D4-44E8-8EF1-2390C7E2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16DA4-BEF3-49B5-9E54-59CE04EB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D82C2-B259-457A-863E-929FA80A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7EF48-1E0C-40BB-AF03-FF2148C8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B8370-08D6-4B24-9E4E-DCAD9A70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6EB6E-E28D-4805-A0DE-C6D6F88B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3192A-74D2-428E-B5B2-210C59B1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0683A-F062-44DC-AEDA-E5A5B73F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77085-17D7-49AC-B303-1983C07F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A53-C68A-4F78-BC03-871BBE8E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557FA-6230-4055-A3DE-9D14339E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CEAD7-B128-4F3F-8952-49C6628C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FD290-28F7-45A1-B98C-AAD263A8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FC999-8D53-42D1-AA60-29A1D4FC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5E131-A6DF-43D7-82A4-F4BA195A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C935A-4D3B-4E02-AB7C-16E06382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EC2AA-353B-40B3-BEE0-912DD107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B2BC9-EA28-44C7-BC16-003116D0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CB705-D008-416A-B57E-60F5F6DD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D9771-738D-4706-957F-17F9200B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F2F6-92A8-4771-AE5F-72FFFBC7A7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4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F127-FF13-4D7F-9B63-2698B6AE3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1B69-A2D4-48DA-BBBE-6877A7A187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4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07F2-AF8F-42EB-924F-1E6AF666D4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0B7E-DAC1-402E-BF30-8EC153E743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4782-A94B-4218-AD94-40C2AEE712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6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687F-4796-4798-BED1-CFE40A86D6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E312-62B3-4FA9-BC87-304CB3D53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AA4E-7171-493E-ACB7-AF6C46CF9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21A3-87B5-4583-BC97-847D600B2D0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7FB8-DF73-43ED-B95D-E3A9CABBA2C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FD9B-197D-414A-A4EB-2FA8B3EE2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7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2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11280" y="1484280"/>
            <a:ext cx="7777080" cy="403236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ре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ужны ли нам стресс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обходим, чтобы достичь пика в работ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о двигатель прогресса в нашей жи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 каждого индивидуума свой пик продуктив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то нужно делать чтобы не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ишли к моральному срыву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алансировать свои нуж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бота о себе и других в хорошем баланс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иды стресс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Положи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свадьба, рождение ребенка, выбор профессии, любов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Отрица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агрузка на работе, болезни, ссоры, финансовые и  семейные проблемы, смерть близких, страх, опасность, плохая окружающая сре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97000"/>
            <a:ext cx="83851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ффекты стрес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95280" y="836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РЕАКЦИЯ ОРГАНИЗМА НА ВНЕЗАПНЫЙ СТР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изический: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4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оральный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забывчив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сосредоточ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дражение , па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ложность принятия ре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бит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оча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сихически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торванность от об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выслушать друг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контролируемое время раз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щет ш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фокусировка на отрицательном эффек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т сдержанности в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7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Духовны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теряют цель и смысл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окружающ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Б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611280" y="1557360"/>
            <a:ext cx="8137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предупредить стрес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8033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560" y="2166840"/>
            <a:ext cx="8762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Состояние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возникающее при действии чрезвычайных или патолог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раздражителей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 приводящих к напряжению неспециф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адаптационных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механизмов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рганизм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83880"/>
            <a:ext cx="79246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РАЗУМНОЕ ПРИСПОСОБЛЕ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120"/>
            <a:ext cx="77724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5e5ff"/>
                </a:solidFill>
                <a:latin typeface="Garamond"/>
              </a:rPr>
              <a:t>ЗДОРОВЫЙ ОБРАЗ </a:t>
            </a:r>
            <a:r>
              <a:rPr b="0" lang="en-US" sz="5000" spc="-1" strike="noStrike">
                <a:solidFill>
                  <a:srgbClr val="e5e5ff"/>
                </a:solidFill>
                <a:latin typeface="Garamond"/>
              </a:rPr>
              <a:t>ЖИЗНИ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ЛАНИРОВА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 БЕСПОКОЙТЕСЬ О БУДУЩ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28240" y="168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ЫШ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УШЕВНЫЙ ПОКОЙ И ИСЦ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ОМОЩЬ ДРУГИМ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ДОВЕРИЕ БОГ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7724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РИСТОС В СЕРД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95280" y="2492280"/>
            <a:ext cx="8352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тресс = стрессор + реакц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132000" y="4221000"/>
            <a:ext cx="48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%                                                     90%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СЕМЬ КЛЮЧЕЙ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Стресс – это не то, что случается с нами, а то, как мы реагируем на это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тревоги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билизация исходных си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резистентности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опротивл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знание и борьба с н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стощ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дром приобретает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тогенный характ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619280" y="620640"/>
            <a:ext cx="64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щий адаптационный синдро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6044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ДИИ СТ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пределяется реактивностью орган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еактивность зависит о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наследственных свойст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ранее перенесенных воздейств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возрас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692360" y="404640"/>
            <a:ext cx="6551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арактер стресс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Исход стресс-реак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врат к первоначальному состоянию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никновение боле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БОЛЕЗНИ СВЯЗАННЫЕ СО СТРЕСС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05:29:31Z</dcterms:created>
  <dc:creator>cb</dc:creator>
  <dc:description/>
  <dc:language>en-US</dc:language>
  <cp:lastModifiedBy>cb</cp:lastModifiedBy>
  <dcterms:modified xsi:type="dcterms:W3CDTF">2006-03-19T18:34:47Z</dcterms:modified>
  <cp:revision>13</cp:revision>
  <dc:subject/>
  <dc:title>Стресс</dc:title>
</cp:coreProperties>
</file>